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27BF-F358-477B-8FB4-2008AB67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5AB7-0CF6-429D-A7C0-2B8882BB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38F7-7E35-4828-858D-26848B632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7836-87E4-43E5-8574-BC406881A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5015-4FFC-4D21-B705-A7C2CAF38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61A1-FFFE-4774-AAAA-431237D3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87D3-70E0-4D10-911C-04E5DD47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AD30-9EE5-4EE8-BBAB-9577300F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449A-A528-46B6-81F9-000AC0E0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93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DA4A-25BE-4AC5-BAFE-74B98F9A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F6BD-AED9-421B-AD02-E8C9DC5C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C7B3-7800-4381-9E60-3D6D2CFF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5105-E528-4165-8205-EB852E23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D098-E8BB-4F8F-802E-3AC3828D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2476-FC67-4034-9CE7-530DA651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EAE3-AF43-4132-AFF8-F84A2D949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661E-C148-42B4-A898-3C24BA072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2EA9-C1DE-49BA-8334-F95A7CD2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C87B-66F2-4185-8C0E-07E8DF64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6024-2731-419E-9622-F3CD7D39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93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ECDF-3245-4AA3-88D4-A0DF6153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879B-D1BF-4800-8AF8-40EDAAE9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4D5D-752E-402B-A953-D9E78337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E46B-19E2-45DD-B402-B06045FC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9A47-6C45-4809-9CF1-88580DCF6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80" y="7192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0880" y="152280"/>
            <a:ext cx="8251560" cy="1052280"/>
            <a:chOff x="380880" y="152280"/>
            <a:chExt cx="8251560" cy="1052280"/>
          </a:xfrm>
        </p:grpSpPr>
        <p:sp>
          <p:nvSpPr>
            <p:cNvPr id="43" name=""/>
            <p:cNvSpPr/>
            <p:nvPr/>
          </p:nvSpPr>
          <p:spPr>
            <a:xfrm>
              <a:off x="380880" y="26028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63560" y="26028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04720" y="68256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74440" y="68256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25400" y="1522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06080" y="9428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42A3-622B-4387-AFF6-BE8E5140DC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66680" y="33300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lving Absolute Value Equation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18576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What is Absolute Value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number is the number of units it is from zero on the number li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and -5 have the same absolute valu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ymbol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represents the absolute value of the numb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-8| = 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4| = 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try: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15| =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-23| =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olute Value can also be defined as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0, then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 0, then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= 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56880"/>
            <a:ext cx="779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We can evaluate expressions that contain absolute value symbols.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of the |  | bars as grouping symbol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e |9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3| + 5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9(-2) -3| + 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-18 -3| + 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-21| + 5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1+ 5=2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428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quations may also contain absolute value express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solving an equation, isolate the absolute value expression fir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write the equation as two separate equations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the equation  |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| = 3.  The equation has two solutions 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 equal 3 or -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each equ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check your solu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Solve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8| =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8 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8 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:  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8| =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-5 + 8| =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-11 + 8| =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3| =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|-3| =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=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3 =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200400" y="5791320"/>
            <a:ext cx="380520" cy="228600"/>
            <a:chOff x="3200400" y="5791320"/>
            <a:chExt cx="380520" cy="228600"/>
          </a:xfrm>
        </p:grpSpPr>
        <p:sp>
          <p:nvSpPr>
            <p:cNvPr id="99" name=""/>
            <p:cNvSpPr/>
            <p:nvPr/>
          </p:nvSpPr>
          <p:spPr>
            <a:xfrm>
              <a:off x="3200400" y="5905440"/>
              <a:ext cx="54360" cy="114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254760" y="5791320"/>
              <a:ext cx="32616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867280" y="5791320"/>
            <a:ext cx="380520" cy="228600"/>
            <a:chOff x="5867280" y="5791320"/>
            <a:chExt cx="380520" cy="228600"/>
          </a:xfrm>
        </p:grpSpPr>
        <p:sp>
          <p:nvSpPr>
            <p:cNvPr id="102" name=""/>
            <p:cNvSpPr/>
            <p:nvPr/>
          </p:nvSpPr>
          <p:spPr>
            <a:xfrm>
              <a:off x="5867280" y="5905440"/>
              <a:ext cx="54360" cy="114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5921280" y="5791320"/>
              <a:ext cx="32652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7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2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3" dur="50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8" dur="500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3" dur="500"/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Now Try Thes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4| - 3 =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4| = 3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must first isolate the variable by add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3 to both sid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the two separate equ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4 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4 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: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4| - 3 = 0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1 + 4| -3 =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7 + 4| - 3 =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3| - 3 =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|-3| - 3 =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- 3 =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3 - 3 =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=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0 =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809880" y="4910040"/>
            <a:ext cx="380520" cy="228600"/>
            <a:chOff x="3809880" y="4910040"/>
            <a:chExt cx="380520" cy="228600"/>
          </a:xfrm>
        </p:grpSpPr>
        <p:sp>
          <p:nvSpPr>
            <p:cNvPr id="107" name=""/>
            <p:cNvSpPr/>
            <p:nvPr/>
          </p:nvSpPr>
          <p:spPr>
            <a:xfrm>
              <a:off x="3809880" y="5024160"/>
              <a:ext cx="54360" cy="114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863880" y="4910040"/>
              <a:ext cx="32652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6315120" y="4900680"/>
            <a:ext cx="380520" cy="228600"/>
            <a:chOff x="6315120" y="4900680"/>
            <a:chExt cx="380520" cy="228600"/>
          </a:xfrm>
        </p:grpSpPr>
        <p:sp>
          <p:nvSpPr>
            <p:cNvPr id="110" name=""/>
            <p:cNvSpPr/>
            <p:nvPr/>
          </p:nvSpPr>
          <p:spPr>
            <a:xfrm>
              <a:off x="6315120" y="5014800"/>
              <a:ext cx="54360" cy="114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6369480" y="4900680"/>
              <a:ext cx="32616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0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1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6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1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6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9| + 6 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isolate the variable b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acting 6 from both si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9| = -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re is no need to go any further with this problem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olute value is never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gativ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refore, the solution is the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mpty set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:  3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5| = 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5| = 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5 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5 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:  3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5| = 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|9 - 5| = 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3|1 - 5| = 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|4| = 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3|-4| = 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(4) = 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3(4) = 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= 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12 = 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581280" y="4648320"/>
            <a:ext cx="380520" cy="228600"/>
            <a:chOff x="3581280" y="4648320"/>
            <a:chExt cx="380520" cy="228600"/>
          </a:xfrm>
        </p:grpSpPr>
        <p:sp>
          <p:nvSpPr>
            <p:cNvPr id="115" name=""/>
            <p:cNvSpPr/>
            <p:nvPr/>
          </p:nvSpPr>
          <p:spPr>
            <a:xfrm>
              <a:off x="3581280" y="4762440"/>
              <a:ext cx="54360" cy="114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635280" y="4648320"/>
              <a:ext cx="32652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248520" y="4648320"/>
            <a:ext cx="380520" cy="228600"/>
            <a:chOff x="6248520" y="4648320"/>
            <a:chExt cx="380520" cy="228600"/>
          </a:xfrm>
        </p:grpSpPr>
        <p:sp>
          <p:nvSpPr>
            <p:cNvPr id="118" name=""/>
            <p:cNvSpPr/>
            <p:nvPr/>
          </p:nvSpPr>
          <p:spPr>
            <a:xfrm>
              <a:off x="6248520" y="4762440"/>
              <a:ext cx="54360" cy="114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302880" y="4648320"/>
              <a:ext cx="32616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6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6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1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:  |8 + 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= 14 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+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4 -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and     8 +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(14 –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up your 2 equations, bu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sure to negate the enti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ide of the seco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+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4 -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and     8 +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14 +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5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8 + 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= 14 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8 + 5(1)| = 14 -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|8 + 5(-5.5) = 14 - (-5.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13| = 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|-19.5| = 19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13 = 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9.5 = 19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81280" y="5562720"/>
            <a:ext cx="380520" cy="228600"/>
            <a:chOff x="3581280" y="5562720"/>
            <a:chExt cx="380520" cy="228600"/>
          </a:xfrm>
        </p:grpSpPr>
        <p:sp>
          <p:nvSpPr>
            <p:cNvPr id="122" name=""/>
            <p:cNvSpPr/>
            <p:nvPr/>
          </p:nvSpPr>
          <p:spPr>
            <a:xfrm>
              <a:off x="3581280" y="5676840"/>
              <a:ext cx="54360" cy="114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3635280" y="5562720"/>
              <a:ext cx="32652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7086600" y="5562720"/>
            <a:ext cx="380520" cy="228600"/>
            <a:chOff x="7086600" y="5562720"/>
            <a:chExt cx="380520" cy="228600"/>
          </a:xfrm>
        </p:grpSpPr>
        <p:sp>
          <p:nvSpPr>
            <p:cNvPr id="125" name=""/>
            <p:cNvSpPr/>
            <p:nvPr/>
          </p:nvSpPr>
          <p:spPr>
            <a:xfrm>
              <a:off x="7086600" y="5676840"/>
              <a:ext cx="54360" cy="114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7140960" y="5562720"/>
              <a:ext cx="32616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1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6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7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2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9T03:40:15Z</dcterms:created>
  <dc:creator>HCPS</dc:creator>
  <dc:description/>
  <dc:language>en-US</dc:language>
  <cp:lastModifiedBy>Authorized User</cp:lastModifiedBy>
  <dcterms:modified xsi:type="dcterms:W3CDTF">2007-07-24T13:46:49Z</dcterms:modified>
  <cp:revision>53</cp:revision>
  <dc:subject/>
  <dc:title>1.5</dc:title>
</cp:coreProperties>
</file>